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7.jpeg" ContentType="image/jpeg"/>
  <Override PartName="/ppt/media/image1.wmf" ContentType="image/x-wmf"/>
  <Override PartName="/ppt/media/image15.jpeg" ContentType="image/jpeg"/>
  <Override PartName="/ppt/media/image16.jpeg" ContentType="image/jpeg"/>
  <Override PartName="/ppt/media/image18.jpeg" ContentType="image/jpeg"/>
  <Override PartName="/ppt/media/image32.gif" ContentType="image/gif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597F-3BD3-409B-9EA6-F601970C0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5D9E-12EA-4225-8B4C-F893DCE5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692B-A1C7-4A7D-B11E-BDFD136F1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CD04-9278-4717-A08D-008E11271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6BFE-AC7D-4241-A1B5-31D249F5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9AE6-9B23-4BF1-A328-2AB44EA9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6033-C049-43D8-99DB-11C33E4E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7BD8-FE28-48D8-AB1A-D11D7CCE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619B-85FA-4D67-B301-7CB20E22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3111-679C-4A7E-83F3-8FBE4DCE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15DE-7156-4D7B-B9FE-4574FB7E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F6F2-BBA4-4C7B-BAD4-AF608FE7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A25A-DAB8-4C2C-B4B8-D3C206665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laescuelavirtual.com/plastilina01/plastilina01temario.htm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www.laescuelavirtual.com/plastilina01/plastilina01temario.htm" TargetMode="External"/><Relationship Id="rId5" Type="http://schemas.openxmlformats.org/officeDocument/2006/relationships/image" Target="../media/image8.jpeg"/><Relationship Id="rId6" Type="http://schemas.openxmlformats.org/officeDocument/2006/relationships/hyperlink" Target="http://www.laescuelavirtual.com/plastilina01/plastilina01temario.htm" TargetMode="External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00"/>
                </a:solidFill>
                <a:latin typeface="Times New Roman"/>
              </a:rPr>
              <a:t>CEL MAI BUN PRIETEN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cccc00"/>
                </a:solidFill>
                <a:latin typeface="Times New Roman"/>
              </a:rPr>
              <a:t>de Victor Sivetid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dd01009_" descr=""/>
          <p:cNvPicPr/>
          <p:nvPr/>
        </p:nvPicPr>
        <p:blipFill>
          <a:blip r:embed="rId1"/>
          <a:stretch/>
        </p:blipFill>
        <p:spPr>
          <a:xfrm>
            <a:off x="0" y="5424480"/>
            <a:ext cx="1935000" cy="1433520"/>
          </a:xfrm>
          <a:prstGeom prst="rect">
            <a:avLst/>
          </a:prstGeom>
          <a:ln w="0">
            <a:noFill/>
          </a:ln>
        </p:spPr>
      </p:pic>
      <p:pic>
        <p:nvPicPr>
          <p:cNvPr id="43" name="dd01009_" descr=""/>
          <p:cNvPicPr/>
          <p:nvPr/>
        </p:nvPicPr>
        <p:blipFill>
          <a:blip r:embed="rId2"/>
          <a:stretch/>
        </p:blipFill>
        <p:spPr>
          <a:xfrm>
            <a:off x="7209000" y="5424480"/>
            <a:ext cx="1935000" cy="1433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209000" y="0"/>
            <a:ext cx="1935000" cy="1433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35000" cy="1433520"/>
          </a:xfrm>
          <a:prstGeom prst="rect">
            <a:avLst/>
          </a:prstGeom>
          <a:ln w="0">
            <a:noFill/>
          </a:ln>
        </p:spPr>
      </p:pic>
      <p:pic>
        <p:nvPicPr>
          <p:cNvPr id="46" name="bd15156_" descr=""/>
          <p:cNvPicPr/>
          <p:nvPr/>
        </p:nvPicPr>
        <p:blipFill>
          <a:blip r:embed="rId5"/>
          <a:stretch/>
        </p:blipFill>
        <p:spPr>
          <a:xfrm>
            <a:off x="1143000" y="2971800"/>
            <a:ext cx="6858000" cy="114480"/>
          </a:xfrm>
          <a:prstGeom prst="rect">
            <a:avLst/>
          </a:prstGeom>
          <a:ln w="0">
            <a:noFill/>
          </a:ln>
        </p:spPr>
      </p:pic>
      <p:pic>
        <p:nvPicPr>
          <p:cNvPr id="47" name="bd15156_" descr=""/>
          <p:cNvPicPr/>
          <p:nvPr/>
        </p:nvPicPr>
        <p:blipFill>
          <a:blip r:embed="rId6"/>
          <a:stretch/>
        </p:blipFill>
        <p:spPr>
          <a:xfrm>
            <a:off x="1143000" y="2209680"/>
            <a:ext cx="685800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647960" y="761760"/>
            <a:ext cx="38098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560760" y="2459160"/>
            <a:ext cx="4224240" cy="44280"/>
            <a:chOff x="3560760" y="2459160"/>
            <a:chExt cx="4224240" cy="44280"/>
          </a:xfrm>
        </p:grpSpPr>
        <p:sp>
          <p:nvSpPr>
            <p:cNvPr id="132" name=""/>
            <p:cNvSpPr/>
            <p:nvPr/>
          </p:nvSpPr>
          <p:spPr>
            <a:xfrm>
              <a:off x="3560760" y="2459160"/>
              <a:ext cx="4224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3560760" y="2459160"/>
              <a:ext cx="4224240" cy="44280"/>
              <a:chOff x="3560760" y="2459160"/>
              <a:chExt cx="4224240" cy="44280"/>
            </a:xfrm>
          </p:grpSpPr>
          <p:sp>
            <p:nvSpPr>
              <p:cNvPr id="134" name=""/>
              <p:cNvSpPr/>
              <p:nvPr/>
            </p:nvSpPr>
            <p:spPr>
              <a:xfrm>
                <a:off x="3560760" y="2459160"/>
                <a:ext cx="4224240" cy="4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560760" y="2459160"/>
                <a:ext cx="4224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36" name="08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3809880" cy="3124080"/>
          </a:xfrm>
          <a:prstGeom prst="rect">
            <a:avLst/>
          </a:prstGeom>
          <a:ln w="0">
            <a:noFill/>
          </a:ln>
        </p:spPr>
      </p:pic>
      <p:grpSp>
        <p:nvGrpSpPr>
          <p:cNvPr id="137" name=""/>
          <p:cNvGrpSpPr/>
          <p:nvPr/>
        </p:nvGrpSpPr>
        <p:grpSpPr>
          <a:xfrm>
            <a:off x="3560760" y="2463840"/>
            <a:ext cx="4224240" cy="44280"/>
            <a:chOff x="3560760" y="2463840"/>
            <a:chExt cx="4224240" cy="44280"/>
          </a:xfrm>
        </p:grpSpPr>
        <p:sp>
          <p:nvSpPr>
            <p:cNvPr id="138" name=""/>
            <p:cNvSpPr/>
            <p:nvPr/>
          </p:nvSpPr>
          <p:spPr>
            <a:xfrm>
              <a:off x="3560760" y="2463840"/>
              <a:ext cx="4224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3560760" y="2463840"/>
              <a:ext cx="4224240" cy="44280"/>
              <a:chOff x="3560760" y="2463840"/>
              <a:chExt cx="4224240" cy="44280"/>
            </a:xfrm>
          </p:grpSpPr>
          <p:sp>
            <p:nvSpPr>
              <p:cNvPr id="140" name=""/>
              <p:cNvSpPr/>
              <p:nvPr/>
            </p:nvSpPr>
            <p:spPr>
              <a:xfrm>
                <a:off x="3560760" y="2463840"/>
                <a:ext cx="4224240" cy="4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560760" y="2463840"/>
                <a:ext cx="4224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42" name="11" descr=""/>
          <p:cNvPicPr/>
          <p:nvPr/>
        </p:nvPicPr>
        <p:blipFill>
          <a:blip r:embed="rId2"/>
          <a:stretch/>
        </p:blipFill>
        <p:spPr>
          <a:xfrm>
            <a:off x="4876920" y="457200"/>
            <a:ext cx="3657600" cy="3124080"/>
          </a:xfrm>
          <a:prstGeom prst="rect">
            <a:avLst/>
          </a:prstGeom>
          <a:ln w="0">
            <a:noFill/>
          </a:ln>
        </p:spPr>
      </p:pic>
      <p:grpSp>
        <p:nvGrpSpPr>
          <p:cNvPr id="143" name=""/>
          <p:cNvGrpSpPr/>
          <p:nvPr/>
        </p:nvGrpSpPr>
        <p:grpSpPr>
          <a:xfrm>
            <a:off x="3560760" y="2452680"/>
            <a:ext cx="4224240" cy="44280"/>
            <a:chOff x="3560760" y="2452680"/>
            <a:chExt cx="4224240" cy="44280"/>
          </a:xfrm>
        </p:grpSpPr>
        <p:sp>
          <p:nvSpPr>
            <p:cNvPr id="144" name=""/>
            <p:cNvSpPr/>
            <p:nvPr/>
          </p:nvSpPr>
          <p:spPr>
            <a:xfrm>
              <a:off x="3560760" y="2452680"/>
              <a:ext cx="4224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3560760" y="2452680"/>
              <a:ext cx="4224240" cy="44280"/>
              <a:chOff x="3560760" y="2452680"/>
              <a:chExt cx="4224240" cy="44280"/>
            </a:xfrm>
          </p:grpSpPr>
          <p:sp>
            <p:nvSpPr>
              <p:cNvPr id="146" name=""/>
              <p:cNvSpPr/>
              <p:nvPr/>
            </p:nvSpPr>
            <p:spPr>
              <a:xfrm>
                <a:off x="3560760" y="2452680"/>
                <a:ext cx="4224240" cy="4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560760" y="2452680"/>
                <a:ext cx="4224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48" name="12" descr=""/>
          <p:cNvPicPr/>
          <p:nvPr/>
        </p:nvPicPr>
        <p:blipFill>
          <a:blip r:embed="rId3"/>
          <a:stretch/>
        </p:blipFill>
        <p:spPr>
          <a:xfrm>
            <a:off x="685800" y="3733920"/>
            <a:ext cx="380988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49" name=""/>
          <p:cNvGrpSpPr/>
          <p:nvPr/>
        </p:nvGrpSpPr>
        <p:grpSpPr>
          <a:xfrm>
            <a:off x="3560760" y="2459160"/>
            <a:ext cx="4224240" cy="44280"/>
            <a:chOff x="3560760" y="2459160"/>
            <a:chExt cx="4224240" cy="44280"/>
          </a:xfrm>
        </p:grpSpPr>
        <p:sp>
          <p:nvSpPr>
            <p:cNvPr id="150" name=""/>
            <p:cNvSpPr/>
            <p:nvPr/>
          </p:nvSpPr>
          <p:spPr>
            <a:xfrm>
              <a:off x="3560760" y="2459160"/>
              <a:ext cx="4224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3560760" y="2459160"/>
              <a:ext cx="4224240" cy="44280"/>
              <a:chOff x="3560760" y="2459160"/>
              <a:chExt cx="4224240" cy="44280"/>
            </a:xfrm>
          </p:grpSpPr>
          <p:sp>
            <p:nvSpPr>
              <p:cNvPr id="152" name=""/>
              <p:cNvSpPr/>
              <p:nvPr/>
            </p:nvSpPr>
            <p:spPr>
              <a:xfrm>
                <a:off x="3560760" y="2459160"/>
                <a:ext cx="4224240" cy="4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560760" y="2459160"/>
                <a:ext cx="4224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54" name="13" descr=""/>
          <p:cNvPicPr/>
          <p:nvPr/>
        </p:nvPicPr>
        <p:blipFill>
          <a:blip r:embed="rId4"/>
          <a:stretch/>
        </p:blipFill>
        <p:spPr>
          <a:xfrm>
            <a:off x="4876920" y="37339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44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4796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64796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560760" y="2452680"/>
            <a:ext cx="4224240" cy="44280"/>
            <a:chOff x="3560760" y="2452680"/>
            <a:chExt cx="4224240" cy="44280"/>
          </a:xfrm>
        </p:grpSpPr>
        <p:sp>
          <p:nvSpPr>
            <p:cNvPr id="159" name=""/>
            <p:cNvSpPr/>
            <p:nvPr/>
          </p:nvSpPr>
          <p:spPr>
            <a:xfrm>
              <a:off x="3560760" y="2452680"/>
              <a:ext cx="4224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3560760" y="2452680"/>
              <a:ext cx="4224240" cy="44280"/>
              <a:chOff x="3560760" y="2452680"/>
              <a:chExt cx="4224240" cy="44280"/>
            </a:xfrm>
          </p:grpSpPr>
          <p:sp>
            <p:nvSpPr>
              <p:cNvPr id="161" name=""/>
              <p:cNvSpPr/>
              <p:nvPr/>
            </p:nvSpPr>
            <p:spPr>
              <a:xfrm>
                <a:off x="3560760" y="2452680"/>
                <a:ext cx="4224240" cy="4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560760" y="2452680"/>
                <a:ext cx="4224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63" name="14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3657600" cy="281952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3560760" y="2470320"/>
            <a:ext cx="4224240" cy="44280"/>
            <a:chOff x="3560760" y="2470320"/>
            <a:chExt cx="4224240" cy="44280"/>
          </a:xfrm>
        </p:grpSpPr>
        <p:sp>
          <p:nvSpPr>
            <p:cNvPr id="165" name=""/>
            <p:cNvSpPr/>
            <p:nvPr/>
          </p:nvSpPr>
          <p:spPr>
            <a:xfrm>
              <a:off x="3560760" y="2470320"/>
              <a:ext cx="4224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3560760" y="2470320"/>
              <a:ext cx="4224240" cy="44280"/>
              <a:chOff x="3560760" y="2470320"/>
              <a:chExt cx="4224240" cy="44280"/>
            </a:xfrm>
          </p:grpSpPr>
          <p:sp>
            <p:nvSpPr>
              <p:cNvPr id="167" name=""/>
              <p:cNvSpPr/>
              <p:nvPr/>
            </p:nvSpPr>
            <p:spPr>
              <a:xfrm>
                <a:off x="3560760" y="2470320"/>
                <a:ext cx="4224240" cy="4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560760" y="2470320"/>
                <a:ext cx="4224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69" name="15" descr=""/>
          <p:cNvPicPr/>
          <p:nvPr/>
        </p:nvPicPr>
        <p:blipFill>
          <a:blip r:embed="rId2"/>
          <a:stretch/>
        </p:blipFill>
        <p:spPr>
          <a:xfrm>
            <a:off x="5029200" y="380880"/>
            <a:ext cx="3581280" cy="2819520"/>
          </a:xfrm>
          <a:prstGeom prst="rect">
            <a:avLst/>
          </a:prstGeom>
          <a:ln w="0">
            <a:noFill/>
          </a:ln>
        </p:spPr>
      </p:pic>
      <p:grpSp>
        <p:nvGrpSpPr>
          <p:cNvPr id="170" name=""/>
          <p:cNvGrpSpPr/>
          <p:nvPr/>
        </p:nvGrpSpPr>
        <p:grpSpPr>
          <a:xfrm>
            <a:off x="3537000" y="1817640"/>
            <a:ext cx="4224240" cy="44280"/>
            <a:chOff x="3537000" y="1817640"/>
            <a:chExt cx="4224240" cy="44280"/>
          </a:xfrm>
        </p:grpSpPr>
        <p:sp>
          <p:nvSpPr>
            <p:cNvPr id="171" name=""/>
            <p:cNvSpPr/>
            <p:nvPr/>
          </p:nvSpPr>
          <p:spPr>
            <a:xfrm>
              <a:off x="3537000" y="1817640"/>
              <a:ext cx="4224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3537000" y="1817640"/>
              <a:ext cx="4224240" cy="44280"/>
              <a:chOff x="3537000" y="1817640"/>
              <a:chExt cx="4224240" cy="44280"/>
            </a:xfrm>
          </p:grpSpPr>
          <p:sp>
            <p:nvSpPr>
              <p:cNvPr id="173" name=""/>
              <p:cNvSpPr/>
              <p:nvPr/>
            </p:nvSpPr>
            <p:spPr>
              <a:xfrm>
                <a:off x="3537000" y="1817640"/>
                <a:ext cx="4224240" cy="4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537000" y="1817640"/>
                <a:ext cx="4224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75" name="26" descr=""/>
          <p:cNvPicPr/>
          <p:nvPr/>
        </p:nvPicPr>
        <p:blipFill>
          <a:blip r:embed="rId3"/>
          <a:stretch/>
        </p:blipFill>
        <p:spPr>
          <a:xfrm>
            <a:off x="609480" y="3505320"/>
            <a:ext cx="3657600" cy="2971800"/>
          </a:xfrm>
          <a:prstGeom prst="rect">
            <a:avLst/>
          </a:prstGeom>
          <a:ln w="0">
            <a:noFill/>
          </a:ln>
        </p:spPr>
      </p:pic>
      <p:grpSp>
        <p:nvGrpSpPr>
          <p:cNvPr id="176" name=""/>
          <p:cNvGrpSpPr/>
          <p:nvPr/>
        </p:nvGrpSpPr>
        <p:grpSpPr>
          <a:xfrm>
            <a:off x="3560760" y="2470320"/>
            <a:ext cx="4224240" cy="44280"/>
            <a:chOff x="3560760" y="2470320"/>
            <a:chExt cx="4224240" cy="44280"/>
          </a:xfrm>
        </p:grpSpPr>
        <p:sp>
          <p:nvSpPr>
            <p:cNvPr id="177" name=""/>
            <p:cNvSpPr/>
            <p:nvPr/>
          </p:nvSpPr>
          <p:spPr>
            <a:xfrm>
              <a:off x="3560760" y="2470320"/>
              <a:ext cx="4224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3560760" y="2470320"/>
              <a:ext cx="4224240" cy="44280"/>
              <a:chOff x="3560760" y="2470320"/>
              <a:chExt cx="4224240" cy="44280"/>
            </a:xfrm>
          </p:grpSpPr>
          <p:sp>
            <p:nvSpPr>
              <p:cNvPr id="179" name=""/>
              <p:cNvSpPr/>
              <p:nvPr/>
            </p:nvSpPr>
            <p:spPr>
              <a:xfrm>
                <a:off x="3560760" y="2470320"/>
                <a:ext cx="4224240" cy="4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560760" y="2470320"/>
                <a:ext cx="4224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81" name="18" descr=""/>
          <p:cNvPicPr/>
          <p:nvPr/>
        </p:nvPicPr>
        <p:blipFill>
          <a:blip r:embed="rId4"/>
          <a:stretch/>
        </p:blipFill>
        <p:spPr>
          <a:xfrm>
            <a:off x="5029200" y="3505320"/>
            <a:ext cx="3581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64796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64796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560760" y="2475000"/>
            <a:ext cx="4224240" cy="44280"/>
            <a:chOff x="3560760" y="2475000"/>
            <a:chExt cx="4224240" cy="44280"/>
          </a:xfrm>
        </p:grpSpPr>
        <p:sp>
          <p:nvSpPr>
            <p:cNvPr id="185" name=""/>
            <p:cNvSpPr/>
            <p:nvPr/>
          </p:nvSpPr>
          <p:spPr>
            <a:xfrm>
              <a:off x="3560760" y="2475000"/>
              <a:ext cx="4224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560760" y="2475000"/>
              <a:ext cx="4224240" cy="44280"/>
              <a:chOff x="3560760" y="2475000"/>
              <a:chExt cx="4224240" cy="44280"/>
            </a:xfrm>
          </p:grpSpPr>
          <p:sp>
            <p:nvSpPr>
              <p:cNvPr id="187" name=""/>
              <p:cNvSpPr/>
              <p:nvPr/>
            </p:nvSpPr>
            <p:spPr>
              <a:xfrm>
                <a:off x="3560760" y="2475000"/>
                <a:ext cx="4224240" cy="4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560760" y="2475000"/>
                <a:ext cx="4224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89" name="19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429000" cy="273204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3560760" y="2070000"/>
            <a:ext cx="4224240" cy="44280"/>
            <a:chOff x="3560760" y="2070000"/>
            <a:chExt cx="4224240" cy="44280"/>
          </a:xfrm>
        </p:grpSpPr>
        <p:sp>
          <p:nvSpPr>
            <p:cNvPr id="191" name=""/>
            <p:cNvSpPr/>
            <p:nvPr/>
          </p:nvSpPr>
          <p:spPr>
            <a:xfrm>
              <a:off x="3560760" y="2070000"/>
              <a:ext cx="4224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3560760" y="2070000"/>
              <a:ext cx="4224240" cy="44280"/>
              <a:chOff x="3560760" y="2070000"/>
              <a:chExt cx="4224240" cy="44280"/>
            </a:xfrm>
          </p:grpSpPr>
          <p:sp>
            <p:nvSpPr>
              <p:cNvPr id="193" name=""/>
              <p:cNvSpPr/>
              <p:nvPr/>
            </p:nvSpPr>
            <p:spPr>
              <a:xfrm>
                <a:off x="3560760" y="2070000"/>
                <a:ext cx="4224240" cy="4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560760" y="2070000"/>
                <a:ext cx="4224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95" name="20" descr=""/>
          <p:cNvPicPr/>
          <p:nvPr/>
        </p:nvPicPr>
        <p:blipFill>
          <a:blip r:embed="rId2"/>
          <a:stretch/>
        </p:blipFill>
        <p:spPr>
          <a:xfrm>
            <a:off x="5105520" y="457200"/>
            <a:ext cx="335268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96" name=""/>
          <p:cNvGrpSpPr/>
          <p:nvPr/>
        </p:nvGrpSpPr>
        <p:grpSpPr>
          <a:xfrm>
            <a:off x="3560760" y="2120760"/>
            <a:ext cx="4224240" cy="44280"/>
            <a:chOff x="3560760" y="2120760"/>
            <a:chExt cx="4224240" cy="44280"/>
          </a:xfrm>
        </p:grpSpPr>
        <p:sp>
          <p:nvSpPr>
            <p:cNvPr id="197" name=""/>
            <p:cNvSpPr/>
            <p:nvPr/>
          </p:nvSpPr>
          <p:spPr>
            <a:xfrm>
              <a:off x="3560760" y="2120760"/>
              <a:ext cx="4224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3560760" y="2120760"/>
              <a:ext cx="4224240" cy="44280"/>
              <a:chOff x="3560760" y="2120760"/>
              <a:chExt cx="4224240" cy="44280"/>
            </a:xfrm>
          </p:grpSpPr>
          <p:sp>
            <p:nvSpPr>
              <p:cNvPr id="199" name=""/>
              <p:cNvSpPr/>
              <p:nvPr/>
            </p:nvSpPr>
            <p:spPr>
              <a:xfrm>
                <a:off x="3560760" y="2120760"/>
                <a:ext cx="4224240" cy="4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560760" y="2120760"/>
                <a:ext cx="4224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01" name="21" descr=""/>
          <p:cNvPicPr/>
          <p:nvPr/>
        </p:nvPicPr>
        <p:blipFill>
          <a:blip r:embed="rId3"/>
          <a:stretch/>
        </p:blipFill>
        <p:spPr>
          <a:xfrm>
            <a:off x="609480" y="3505320"/>
            <a:ext cx="3429000" cy="2819160"/>
          </a:xfrm>
          <a:prstGeom prst="rect">
            <a:avLst/>
          </a:prstGeom>
          <a:ln w="0">
            <a:noFill/>
          </a:ln>
        </p:spPr>
      </p:pic>
      <p:grpSp>
        <p:nvGrpSpPr>
          <p:cNvPr id="202" name=""/>
          <p:cNvGrpSpPr/>
          <p:nvPr/>
        </p:nvGrpSpPr>
        <p:grpSpPr>
          <a:xfrm>
            <a:off x="3560760" y="2178000"/>
            <a:ext cx="4224240" cy="44280"/>
            <a:chOff x="3560760" y="2178000"/>
            <a:chExt cx="4224240" cy="44280"/>
          </a:xfrm>
        </p:grpSpPr>
        <p:sp>
          <p:nvSpPr>
            <p:cNvPr id="203" name=""/>
            <p:cNvSpPr/>
            <p:nvPr/>
          </p:nvSpPr>
          <p:spPr>
            <a:xfrm>
              <a:off x="3560760" y="2178000"/>
              <a:ext cx="4224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3560760" y="2178000"/>
              <a:ext cx="4224240" cy="44280"/>
              <a:chOff x="3560760" y="2178000"/>
              <a:chExt cx="4224240" cy="44280"/>
            </a:xfrm>
          </p:grpSpPr>
          <p:sp>
            <p:nvSpPr>
              <p:cNvPr id="205" name=""/>
              <p:cNvSpPr/>
              <p:nvPr/>
            </p:nvSpPr>
            <p:spPr>
              <a:xfrm>
                <a:off x="3560760" y="2178000"/>
                <a:ext cx="4224240" cy="4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560760" y="2178000"/>
                <a:ext cx="4224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07" name="22" descr=""/>
          <p:cNvPicPr/>
          <p:nvPr/>
        </p:nvPicPr>
        <p:blipFill>
          <a:blip r:embed="rId4"/>
          <a:stretch/>
        </p:blipFill>
        <p:spPr>
          <a:xfrm>
            <a:off x="5105520" y="3505320"/>
            <a:ext cx="33526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cc00"/>
                </a:solidFill>
                <a:latin typeface="Times New Roman"/>
              </a:rPr>
              <a:t>Am parcurs toate etapele de realizare a unui căţeluş din plastilină. Câtă muncă şi migală! Dar şi satisfacţia e pe măsura muncii depuse. Căţelul este gata. Ce drăguţ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64796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27" descr=""/>
          <p:cNvPicPr/>
          <p:nvPr/>
        </p:nvPicPr>
        <p:blipFill>
          <a:blip r:embed="rId1"/>
          <a:stretch/>
        </p:blipFill>
        <p:spPr>
          <a:xfrm>
            <a:off x="304920" y="3200400"/>
            <a:ext cx="2666880" cy="320040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3560760" y="2516040"/>
            <a:ext cx="4224240" cy="44280"/>
            <a:chOff x="3560760" y="2516040"/>
            <a:chExt cx="4224240" cy="44280"/>
          </a:xfrm>
        </p:grpSpPr>
        <p:sp>
          <p:nvSpPr>
            <p:cNvPr id="212" name=""/>
            <p:cNvSpPr/>
            <p:nvPr/>
          </p:nvSpPr>
          <p:spPr>
            <a:xfrm>
              <a:off x="3560760" y="2516040"/>
              <a:ext cx="4224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3560760" y="2516040"/>
              <a:ext cx="4224240" cy="44280"/>
              <a:chOff x="3560760" y="2516040"/>
              <a:chExt cx="4224240" cy="44280"/>
            </a:xfrm>
          </p:grpSpPr>
          <p:sp>
            <p:nvSpPr>
              <p:cNvPr id="214" name=""/>
              <p:cNvSpPr/>
              <p:nvPr/>
            </p:nvSpPr>
            <p:spPr>
              <a:xfrm>
                <a:off x="3560760" y="2516040"/>
                <a:ext cx="4224240" cy="4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560760" y="2516040"/>
                <a:ext cx="4224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16" name="24" descr=""/>
          <p:cNvPicPr/>
          <p:nvPr/>
        </p:nvPicPr>
        <p:blipFill>
          <a:blip r:embed="rId2"/>
          <a:stretch/>
        </p:blipFill>
        <p:spPr>
          <a:xfrm>
            <a:off x="3200400" y="3200400"/>
            <a:ext cx="2666880" cy="3200400"/>
          </a:xfrm>
          <a:prstGeom prst="rect">
            <a:avLst/>
          </a:prstGeom>
          <a:ln w="0">
            <a:noFill/>
          </a:ln>
        </p:spPr>
      </p:pic>
      <p:grpSp>
        <p:nvGrpSpPr>
          <p:cNvPr id="217" name=""/>
          <p:cNvGrpSpPr/>
          <p:nvPr/>
        </p:nvGrpSpPr>
        <p:grpSpPr>
          <a:xfrm>
            <a:off x="3560760" y="1989000"/>
            <a:ext cx="4224240" cy="44280"/>
            <a:chOff x="3560760" y="1989000"/>
            <a:chExt cx="4224240" cy="44280"/>
          </a:xfrm>
        </p:grpSpPr>
        <p:sp>
          <p:nvSpPr>
            <p:cNvPr id="218" name=""/>
            <p:cNvSpPr/>
            <p:nvPr/>
          </p:nvSpPr>
          <p:spPr>
            <a:xfrm>
              <a:off x="3560760" y="1989000"/>
              <a:ext cx="4224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3560760" y="1989000"/>
              <a:ext cx="4224240" cy="44280"/>
              <a:chOff x="3560760" y="1989000"/>
              <a:chExt cx="4224240" cy="44280"/>
            </a:xfrm>
          </p:grpSpPr>
          <p:sp>
            <p:nvSpPr>
              <p:cNvPr id="220" name=""/>
              <p:cNvSpPr/>
              <p:nvPr/>
            </p:nvSpPr>
            <p:spPr>
              <a:xfrm>
                <a:off x="3560760" y="1989000"/>
                <a:ext cx="4224240" cy="4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560760" y="1989000"/>
                <a:ext cx="4224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22" name="23" descr=""/>
          <p:cNvPicPr/>
          <p:nvPr/>
        </p:nvPicPr>
        <p:blipFill>
          <a:blip r:embed="rId3"/>
          <a:stretch/>
        </p:blipFill>
        <p:spPr>
          <a:xfrm>
            <a:off x="6095880" y="3200400"/>
            <a:ext cx="2743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00"/>
                </a:solidFill>
                <a:latin typeface="Times New Roman"/>
              </a:rPr>
              <a:t>PROVERBE DESPRE MUNC</a:t>
            </a:r>
            <a:r>
              <a:rPr b="1" lang="ro-RO" sz="4400" spc="-1" strike="noStrike">
                <a:solidFill>
                  <a:srgbClr val="cccc00"/>
                </a:solidFill>
                <a:latin typeface="Times New Roman"/>
              </a:rPr>
              <a:t>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cc00"/>
                </a:solidFill>
                <a:latin typeface="Times New Roman"/>
              </a:rPr>
              <a:t>Munca e brăţară de au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cc00"/>
                </a:solidFill>
                <a:latin typeface="Times New Roman"/>
              </a:rPr>
              <a:t>Omului cu stăruinţă, toate îi sunt cu putinţ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cc00"/>
                </a:solidFill>
                <a:latin typeface="Times New Roman"/>
              </a:rPr>
              <a:t>Pomul se cunoaşte după roade şi omul după fap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cc00"/>
                </a:solidFill>
                <a:latin typeface="Times New Roman"/>
              </a:rPr>
              <a:t>Toamna se numără boboci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cc00"/>
                </a:solidFill>
                <a:latin typeface="Times New Roman"/>
              </a:rPr>
              <a:t>Mergi încet c-ajungi depar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cc00"/>
                </a:solidFill>
                <a:latin typeface="Times New Roman"/>
              </a:rPr>
              <a:t>Cine nu munceşte la tinereţe, n-are la bătrâneţ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cc00"/>
                </a:solidFill>
                <a:latin typeface="Times New Roman"/>
              </a:rPr>
              <a:t>Lucrul bine început, e pe jumătate făc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cc00"/>
                </a:solidFill>
                <a:latin typeface="Times New Roman"/>
              </a:rPr>
              <a:t>Cine se scoală de dimineaţă, departe aju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cc00"/>
                </a:solidFill>
                <a:latin typeface="Times New Roman"/>
              </a:rPr>
              <a:t>Munca sfinţeşte loc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cc00"/>
                </a:solidFill>
                <a:latin typeface="Times New Roman"/>
              </a:rPr>
              <a:t>Pământul, cât de bun ar fi, fără lucrător rămâne sălbat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80520" y="304920"/>
            <a:ext cx="84582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aurel%20din%20plastilin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2133720" y="533520"/>
            <a:ext cx="5238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00"/>
                </a:solidFill>
                <a:latin typeface="Arial Black"/>
              </a:rPr>
              <a:t>Realizat de: înv. Florica Plosca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cc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00"/>
                </a:solidFill>
                <a:latin typeface="Arial Black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00"/>
                </a:solidFill>
                <a:latin typeface="Arial Black"/>
              </a:rPr>
              <a:t>Şc. "Dariu Pop"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cc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00"/>
                </a:solidFill>
                <a:latin typeface="Arial Black"/>
              </a:rPr>
              <a:t>    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00"/>
                </a:solidFill>
                <a:latin typeface="Arial Black"/>
              </a:rPr>
              <a:t>Satu Ma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cc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04560" y="609480"/>
            <a:ext cx="3886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o-RO" sz="2800" spc="-1" strike="noStrike">
                <a:solidFill>
                  <a:srgbClr val="cccc00"/>
                </a:solidFill>
                <a:latin typeface="Times New Roman"/>
              </a:rPr>
              <a:t>Un copil avea multe jucării. S-a jucat ce s-a jucat cu ele şi deodată a început să plâng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cc00"/>
                </a:solidFill>
                <a:latin typeface="Times New Roman"/>
              </a:rPr>
              <a:t>      </a:t>
            </a:r>
            <a:r>
              <a:rPr b="1" lang="ro-RO" sz="2800" spc="-1" strike="noStrike">
                <a:solidFill>
                  <a:srgbClr val="cccc00"/>
                </a:solidFill>
                <a:latin typeface="Times New Roman"/>
              </a:rPr>
              <a:t>- Nu mai am ce face cu ele, i-a spus tatălui său, ştergându-şi lacrimile. Să-mi cumperi o sfârlează! Vreau o sfârlează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cc00"/>
                </a:solidFill>
                <a:latin typeface="Times New Roman"/>
              </a:rPr>
              <a:t>      </a:t>
            </a:r>
            <a:r>
              <a:rPr b="1" lang="ro-RO" sz="2800" spc="-1" strike="noStrike">
                <a:solidFill>
                  <a:srgbClr val="cccc00"/>
                </a:solidFill>
                <a:latin typeface="Times New Roman"/>
              </a:rPr>
              <a:t>- Bine, am să-ţi cumpăr o sfârleaz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19720" y="838080"/>
            <a:ext cx="44956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560" y="380880"/>
            <a:ext cx="419076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o-RO" sz="3600" spc="-1" strike="noStrike">
                <a:solidFill>
                  <a:srgbClr val="cccc00"/>
                </a:solidFill>
                <a:latin typeface="Times New Roman"/>
              </a:rPr>
              <a:t>- Tii, grozavă jucărie! a spus el a doua zi, uitându-se la sfârleaza cumpărată de tatăl său. Ce culori şi ce sunete scoate!...Sfârr, sfârr! Când se învârteşte, parcă ar fi un motan care toar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1088469091+7034" descr="Click pe imagine pentru vizualizare pe fundal negru."/>
          <p:cNvPicPr/>
          <p:nvPr/>
        </p:nvPicPr>
        <p:blipFill>
          <a:blip r:embed="rId1"/>
          <a:stretch/>
        </p:blipFill>
        <p:spPr>
          <a:xfrm>
            <a:off x="4729320" y="533520"/>
            <a:ext cx="39528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449568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o-RO" sz="2800" spc="-1" strike="noStrike">
                <a:solidFill>
                  <a:srgbClr val="cccc00"/>
                </a:solidFill>
                <a:latin typeface="Times New Roman"/>
              </a:rPr>
              <a:t>Într-o bună zi, băiatul s-a plictisit şi de ea şi a spu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cc00"/>
                </a:solidFill>
                <a:latin typeface="Times New Roman"/>
              </a:rPr>
              <a:t>      </a:t>
            </a:r>
            <a:r>
              <a:rPr b="1" lang="ro-RO" sz="2800" spc="-1" strike="noStrike">
                <a:solidFill>
                  <a:srgbClr val="cccc00"/>
                </a:solidFill>
                <a:latin typeface="Times New Roman"/>
              </a:rPr>
              <a:t>- Tăticule, vreau altă jucărie! Asta nu-mi mai plac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cc00"/>
                </a:solidFill>
                <a:latin typeface="Times New Roman"/>
              </a:rPr>
              <a:t>      </a:t>
            </a:r>
            <a:r>
              <a:rPr b="1" lang="ro-RO" sz="2800" spc="-1" strike="noStrike">
                <a:solidFill>
                  <a:srgbClr val="cccc00"/>
                </a:solidFill>
                <a:latin typeface="Times New Roman"/>
              </a:rPr>
              <a:t>- Bine, bine! Am să-ţi cumpăr o altă jucărie, dar pe asta n-ai s-o mai arunci, aşa-i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cc00"/>
                </a:solidFill>
                <a:latin typeface="Times New Roman"/>
              </a:rPr>
              <a:t>      </a:t>
            </a:r>
            <a:r>
              <a:rPr b="1" lang="ro-RO" sz="2800" spc="-1" strike="noStrike">
                <a:solidFill>
                  <a:srgbClr val="cccc00"/>
                </a:solidFill>
                <a:latin typeface="Times New Roman"/>
              </a:rPr>
              <a:t>- N-am s-o mai arunc! a zis copil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cc00"/>
                </a:solidFill>
                <a:latin typeface="Times New Roman"/>
              </a:rPr>
              <a:t>        </a:t>
            </a:r>
            <a:r>
              <a:rPr b="1" lang="ro-RO" sz="2800" spc="-1" strike="noStrike">
                <a:solidFill>
                  <a:srgbClr val="cccc00"/>
                </a:solidFill>
                <a:latin typeface="Times New Roman"/>
              </a:rPr>
              <a:t>Şi a primit o cutie de plastilină de toate culori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cc00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lastilina" descr=""/>
          <p:cNvPicPr/>
          <p:nvPr/>
        </p:nvPicPr>
        <p:blipFill>
          <a:blip r:embed="rId1"/>
          <a:stretch/>
        </p:blipFill>
        <p:spPr>
          <a:xfrm>
            <a:off x="4648320" y="1447920"/>
            <a:ext cx="4190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440" y="762120"/>
            <a:ext cx="38098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o-RO" sz="3600" spc="-1" strike="noStrike">
                <a:solidFill>
                  <a:srgbClr val="cccc00"/>
                </a:solidFill>
                <a:latin typeface="Times New Roman"/>
              </a:rPr>
              <a:t>Mult s-a mai minunat el când a luat plastilina  şi a frământat-o în mâini, de a ieşit repede – repede o minge rotundă şi drăguţă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lastilina5" descr=""/>
          <p:cNvPicPr/>
          <p:nvPr/>
        </p:nvPicPr>
        <p:blipFill>
          <a:blip r:embed="rId1"/>
          <a:stretch/>
        </p:blipFill>
        <p:spPr>
          <a:xfrm>
            <a:off x="5181480" y="1523880"/>
            <a:ext cx="32767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4114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o-RO" sz="3200" spc="-1" strike="noStrike">
                <a:solidFill>
                  <a:srgbClr val="cccc00"/>
                </a:solidFill>
                <a:latin typeface="Times New Roman"/>
              </a:rPr>
              <a:t>Cu o altă bucată de plastilină a făcut un măr, cu o alta un puişor micuţ-micuţ. S-a mai gândit c-o să facă neapărat şi o casă cu grădină, o maşină cu motor, un avion şi câte şi mai câ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cc00"/>
                </a:solidFill>
                <a:latin typeface="Times New Roman"/>
              </a:rPr>
              <a:t>           </a:t>
            </a:r>
            <a:r>
              <a:rPr b="1" lang="ro-RO" sz="3200" spc="-1" strike="noStrike">
                <a:solidFill>
                  <a:srgbClr val="cccc00"/>
                </a:solidFill>
                <a:latin typeface="Times New Roman"/>
              </a:rPr>
              <a:t>Iată că, din ziua aceea, n-a mai plâns după o altă jucărie şi nici nu s-a mai plictis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57360" y="27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models" descr="ejemplos de figuras"/>
          <p:cNvPicPr/>
          <p:nvPr/>
        </p:nvPicPr>
        <p:blipFill>
          <a:blip r:embed="rId1"/>
          <a:stretch/>
        </p:blipFill>
        <p:spPr>
          <a:xfrm>
            <a:off x="4648320" y="2895480"/>
            <a:ext cx="4267080" cy="134964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3240000" y="-4210200"/>
            <a:ext cx="4224240" cy="13635000"/>
            <a:chOff x="3240000" y="-4210200"/>
            <a:chExt cx="4224240" cy="13635000"/>
          </a:xfrm>
        </p:grpSpPr>
        <p:sp>
          <p:nvSpPr>
            <p:cNvPr id="60" name=""/>
            <p:cNvSpPr/>
            <p:nvPr/>
          </p:nvSpPr>
          <p:spPr>
            <a:xfrm>
              <a:off x="3240000" y="-4210200"/>
              <a:ext cx="4224240" cy="136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3240000" y="-4210200"/>
              <a:ext cx="4224240" cy="44280"/>
              <a:chOff x="3240000" y="-4210200"/>
              <a:chExt cx="4224240" cy="44280"/>
            </a:xfrm>
          </p:grpSpPr>
          <p:sp>
            <p:nvSpPr>
              <p:cNvPr id="62" name=""/>
              <p:cNvSpPr/>
              <p:nvPr/>
            </p:nvSpPr>
            <p:spPr>
              <a:xfrm>
                <a:off x="3240000" y="-4210200"/>
                <a:ext cx="4224240" cy="4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240000" y="-4210200"/>
                <a:ext cx="4224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64" name="oso%20plastilina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81200" y="9515520"/>
            <a:ext cx="1143000" cy="155412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3240000" y="-4210200"/>
            <a:ext cx="4224240" cy="13635000"/>
            <a:chOff x="3240000" y="-4210200"/>
            <a:chExt cx="4224240" cy="13635000"/>
          </a:xfrm>
        </p:grpSpPr>
        <p:sp>
          <p:nvSpPr>
            <p:cNvPr id="66" name=""/>
            <p:cNvSpPr/>
            <p:nvPr/>
          </p:nvSpPr>
          <p:spPr>
            <a:xfrm>
              <a:off x="3240000" y="-4210200"/>
              <a:ext cx="4224240" cy="136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240000" y="-4210200"/>
              <a:ext cx="4224240" cy="44280"/>
              <a:chOff x="3240000" y="-4210200"/>
              <a:chExt cx="4224240" cy="44280"/>
            </a:xfrm>
          </p:grpSpPr>
          <p:sp>
            <p:nvSpPr>
              <p:cNvPr id="68" name=""/>
              <p:cNvSpPr/>
              <p:nvPr/>
            </p:nvSpPr>
            <p:spPr>
              <a:xfrm>
                <a:off x="3240000" y="-4210200"/>
                <a:ext cx="4224240" cy="4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240000" y="-4210200"/>
                <a:ext cx="4224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0" name="oso%20plastilina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681200" y="9515520"/>
            <a:ext cx="1143000" cy="155412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3240000" y="-4210200"/>
            <a:ext cx="4224240" cy="13635000"/>
            <a:chOff x="3240000" y="-4210200"/>
            <a:chExt cx="4224240" cy="13635000"/>
          </a:xfrm>
        </p:grpSpPr>
        <p:sp>
          <p:nvSpPr>
            <p:cNvPr id="72" name=""/>
            <p:cNvSpPr/>
            <p:nvPr/>
          </p:nvSpPr>
          <p:spPr>
            <a:xfrm>
              <a:off x="3240000" y="-4210200"/>
              <a:ext cx="4224240" cy="136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3240000" y="-4210200"/>
              <a:ext cx="4224240" cy="44280"/>
              <a:chOff x="3240000" y="-4210200"/>
              <a:chExt cx="4224240" cy="44280"/>
            </a:xfrm>
          </p:grpSpPr>
          <p:sp>
            <p:nvSpPr>
              <p:cNvPr id="74" name=""/>
              <p:cNvSpPr/>
              <p:nvPr/>
            </p:nvSpPr>
            <p:spPr>
              <a:xfrm>
                <a:off x="3240000" y="-4210200"/>
                <a:ext cx="4224240" cy="4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240000" y="-4210200"/>
                <a:ext cx="4224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6" name="oso%20plastilina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681200" y="9515520"/>
            <a:ext cx="1143000" cy="155412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2460600" y="2173320"/>
            <a:ext cx="4224240" cy="44280"/>
            <a:chOff x="2460600" y="2173320"/>
            <a:chExt cx="4224240" cy="44280"/>
          </a:xfrm>
        </p:grpSpPr>
        <p:sp>
          <p:nvSpPr>
            <p:cNvPr id="78" name=""/>
            <p:cNvSpPr/>
            <p:nvPr/>
          </p:nvSpPr>
          <p:spPr>
            <a:xfrm>
              <a:off x="2460600" y="2173320"/>
              <a:ext cx="4224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2460600" y="2173320"/>
              <a:ext cx="4224240" cy="44280"/>
              <a:chOff x="2460600" y="2173320"/>
              <a:chExt cx="4224240" cy="44280"/>
            </a:xfrm>
          </p:grpSpPr>
          <p:sp>
            <p:nvSpPr>
              <p:cNvPr id="80" name=""/>
              <p:cNvSpPr/>
              <p:nvPr/>
            </p:nvSpPr>
            <p:spPr>
              <a:xfrm>
                <a:off x="2460600" y="2173320"/>
                <a:ext cx="4224240" cy="4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460600" y="2173320"/>
                <a:ext cx="4224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" name=""/>
          <p:cNvGrpSpPr/>
          <p:nvPr/>
        </p:nvGrpSpPr>
        <p:grpSpPr>
          <a:xfrm>
            <a:off x="92160" y="2217600"/>
            <a:ext cx="8961480" cy="500040"/>
            <a:chOff x="92160" y="2217600"/>
            <a:chExt cx="8961480" cy="500040"/>
          </a:xfrm>
        </p:grpSpPr>
        <p:sp>
          <p:nvSpPr>
            <p:cNvPr id="83" name=""/>
            <p:cNvSpPr/>
            <p:nvPr/>
          </p:nvSpPr>
          <p:spPr>
            <a:xfrm>
              <a:off x="92160" y="2217600"/>
              <a:ext cx="89614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92160" y="2217600"/>
              <a:ext cx="89614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" name="oso%20plastilina" descr=""/>
          <p:cNvPicPr/>
          <p:nvPr/>
        </p:nvPicPr>
        <p:blipFill>
          <a:blip r:embed="rId8"/>
          <a:stretch/>
        </p:blipFill>
        <p:spPr>
          <a:xfrm>
            <a:off x="4648320" y="4343400"/>
            <a:ext cx="1828800" cy="2286000"/>
          </a:xfrm>
          <a:prstGeom prst="rect">
            <a:avLst/>
          </a:prstGeom>
          <a:ln w="0">
            <a:noFill/>
          </a:ln>
        </p:spPr>
      </p:pic>
      <p:pic>
        <p:nvPicPr>
          <p:cNvPr id="86" name="2006may04_plastilina1" descr="Plastilina"/>
          <p:cNvPicPr/>
          <p:nvPr/>
        </p:nvPicPr>
        <p:blipFill>
          <a:blip r:embed="rId9"/>
          <a:stretch/>
        </p:blipFill>
        <p:spPr>
          <a:xfrm>
            <a:off x="6629400" y="43434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87" name="2006may04_plastilina2" descr="Plastilina"/>
          <p:cNvPicPr/>
          <p:nvPr/>
        </p:nvPicPr>
        <p:blipFill>
          <a:blip r:embed="rId10"/>
          <a:stretch/>
        </p:blipFill>
        <p:spPr>
          <a:xfrm>
            <a:off x="4648320" y="152280"/>
            <a:ext cx="426708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14400" y="685800"/>
            <a:ext cx="8037360" cy="360"/>
          </a:xfrm>
          <a:prstGeom prst="rect">
            <a:avLst/>
          </a:prstGeom>
          <a:solidFill>
            <a:srgbClr val="4b4b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685800"/>
            <a:ext cx="9144000" cy="360"/>
          </a:xfrm>
          <a:prstGeom prst="rect">
            <a:avLst/>
          </a:prstGeom>
          <a:solidFill>
            <a:srgbClr val="4b4b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tachment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14400" y="685800"/>
            <a:ext cx="9144000" cy="3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51920" y="152280"/>
            <a:ext cx="43434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o-RO" sz="2800" spc="-1" strike="noStrike">
                <a:solidFill>
                  <a:srgbClr val="cccc00"/>
                </a:solidFill>
                <a:latin typeface="Times New Roman"/>
              </a:rPr>
              <a:t>- De ce nu mă mai plictisesc? l-a întrebat copilul pe tatăl să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cc00"/>
                </a:solidFill>
                <a:latin typeface="Times New Roman"/>
              </a:rPr>
              <a:t>     </a:t>
            </a:r>
            <a:r>
              <a:rPr b="1" lang="ro-RO" sz="2800" spc="-1" strike="noStrike">
                <a:solidFill>
                  <a:srgbClr val="cccc00"/>
                </a:solidFill>
                <a:latin typeface="Times New Roman"/>
              </a:rPr>
              <a:t>- Pentru că ţi-ai găsit cel mai bun priete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cc00"/>
                </a:solidFill>
                <a:latin typeface="Times New Roman"/>
              </a:rPr>
              <a:t>     </a:t>
            </a:r>
            <a:r>
              <a:rPr b="1" lang="ro-RO" sz="2800" spc="-1" strike="noStrike">
                <a:solidFill>
                  <a:srgbClr val="cccc00"/>
                </a:solidFill>
                <a:latin typeface="Times New Roman"/>
              </a:rPr>
              <a:t>- Pe cine? Plastilina? Nu se poate! Ea este doar un pământ frământat cu ulei şi cu culoare. Dacă nu-l modelezi să iasă ceva, stă cuminte în cutie. Atunci care să fie prietenul cel bu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cc00"/>
                </a:solidFill>
                <a:latin typeface="Times New Roman"/>
              </a:rPr>
              <a:t>      </a:t>
            </a:r>
            <a:r>
              <a:rPr b="1" lang="ro-RO" sz="2800" spc="-1" strike="noStrike">
                <a:solidFill>
                  <a:srgbClr val="cccc00"/>
                </a:solidFill>
                <a:latin typeface="Times New Roman"/>
              </a:rPr>
              <a:t>- Munca! i-a spus tatăl său. Munca harnică de fiecare z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685800"/>
            <a:ext cx="8037360" cy="360"/>
          </a:xfrm>
          <a:prstGeom prst="rect">
            <a:avLst/>
          </a:prstGeom>
          <a:solidFill>
            <a:srgbClr val="4b4b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685800"/>
            <a:ext cx="9144000" cy="360"/>
          </a:xfrm>
          <a:prstGeom prst="rect">
            <a:avLst/>
          </a:prstGeom>
          <a:solidFill>
            <a:srgbClr val="4b4b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685800"/>
            <a:ext cx="9144000" cy="3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460600" y="2527200"/>
            <a:ext cx="4224240" cy="44280"/>
            <a:chOff x="2460600" y="2527200"/>
            <a:chExt cx="4224240" cy="44280"/>
          </a:xfrm>
        </p:grpSpPr>
        <p:sp>
          <p:nvSpPr>
            <p:cNvPr id="97" name=""/>
            <p:cNvSpPr/>
            <p:nvPr/>
          </p:nvSpPr>
          <p:spPr>
            <a:xfrm>
              <a:off x="2460600" y="2527200"/>
              <a:ext cx="4224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2460600" y="2527200"/>
              <a:ext cx="4224240" cy="44280"/>
              <a:chOff x="2460600" y="2527200"/>
              <a:chExt cx="4224240" cy="44280"/>
            </a:xfrm>
          </p:grpSpPr>
          <p:sp>
            <p:nvSpPr>
              <p:cNvPr id="99" name=""/>
              <p:cNvSpPr/>
              <p:nvPr/>
            </p:nvSpPr>
            <p:spPr>
              <a:xfrm>
                <a:off x="2460600" y="2527200"/>
                <a:ext cx="4224240" cy="4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460600" y="2527200"/>
                <a:ext cx="4224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01" name="00" descr=""/>
          <p:cNvPicPr/>
          <p:nvPr/>
        </p:nvPicPr>
        <p:blipFill>
          <a:blip r:embed="rId1"/>
          <a:stretch/>
        </p:blipFill>
        <p:spPr>
          <a:xfrm>
            <a:off x="4648320" y="1219320"/>
            <a:ext cx="4267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00"/>
            </a:gs>
            <a:gs pos="50000">
              <a:srgbClr val="cc0000"/>
            </a:gs>
            <a:gs pos="100000">
              <a:srgbClr val="5e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85440" y="228240"/>
            <a:ext cx="38098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7960" y="304920"/>
            <a:ext cx="3809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440" y="3352320"/>
            <a:ext cx="38098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724280" y="3581280"/>
            <a:ext cx="38102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581280" y="2498760"/>
            <a:ext cx="4224240" cy="44280"/>
            <a:chOff x="3581280" y="2498760"/>
            <a:chExt cx="4224240" cy="44280"/>
          </a:xfrm>
        </p:grpSpPr>
        <p:sp>
          <p:nvSpPr>
            <p:cNvPr id="107" name=""/>
            <p:cNvSpPr/>
            <p:nvPr/>
          </p:nvSpPr>
          <p:spPr>
            <a:xfrm>
              <a:off x="3581280" y="2498760"/>
              <a:ext cx="4224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581280" y="2498760"/>
              <a:ext cx="4224240" cy="44280"/>
              <a:chOff x="3581280" y="2498760"/>
              <a:chExt cx="4224240" cy="44280"/>
            </a:xfrm>
          </p:grpSpPr>
          <p:sp>
            <p:nvSpPr>
              <p:cNvPr id="109" name=""/>
              <p:cNvSpPr/>
              <p:nvPr/>
            </p:nvSpPr>
            <p:spPr>
              <a:xfrm>
                <a:off x="3581280" y="2498760"/>
                <a:ext cx="4224240" cy="4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581280" y="2498760"/>
                <a:ext cx="4224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11" name="02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365760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3581280" y="2498760"/>
            <a:ext cx="4224240" cy="44280"/>
            <a:chOff x="3581280" y="2498760"/>
            <a:chExt cx="4224240" cy="44280"/>
          </a:xfrm>
        </p:grpSpPr>
        <p:sp>
          <p:nvSpPr>
            <p:cNvPr id="113" name=""/>
            <p:cNvSpPr/>
            <p:nvPr/>
          </p:nvSpPr>
          <p:spPr>
            <a:xfrm>
              <a:off x="3581280" y="2498760"/>
              <a:ext cx="4224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3581280" y="2498760"/>
              <a:ext cx="4224240" cy="44280"/>
              <a:chOff x="3581280" y="2498760"/>
              <a:chExt cx="4224240" cy="44280"/>
            </a:xfrm>
          </p:grpSpPr>
          <p:sp>
            <p:nvSpPr>
              <p:cNvPr id="115" name=""/>
              <p:cNvSpPr/>
              <p:nvPr/>
            </p:nvSpPr>
            <p:spPr>
              <a:xfrm>
                <a:off x="3581280" y="2498760"/>
                <a:ext cx="4224240" cy="4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581280" y="2498760"/>
                <a:ext cx="4224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17" name="03" descr=""/>
          <p:cNvPicPr/>
          <p:nvPr/>
        </p:nvPicPr>
        <p:blipFill>
          <a:blip r:embed="rId2"/>
          <a:stretch/>
        </p:blipFill>
        <p:spPr>
          <a:xfrm>
            <a:off x="4952880" y="533520"/>
            <a:ext cx="3581640" cy="2666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2460600" y="2430360"/>
            <a:ext cx="4224240" cy="44280"/>
            <a:chOff x="2460600" y="2430360"/>
            <a:chExt cx="4224240" cy="44280"/>
          </a:xfrm>
        </p:grpSpPr>
        <p:sp>
          <p:nvSpPr>
            <p:cNvPr id="119" name=""/>
            <p:cNvSpPr/>
            <p:nvPr/>
          </p:nvSpPr>
          <p:spPr>
            <a:xfrm>
              <a:off x="2460600" y="2430360"/>
              <a:ext cx="4224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2460600" y="2430360"/>
              <a:ext cx="4224240" cy="44280"/>
              <a:chOff x="2460600" y="2430360"/>
              <a:chExt cx="4224240" cy="44280"/>
            </a:xfrm>
          </p:grpSpPr>
          <p:sp>
            <p:nvSpPr>
              <p:cNvPr id="121" name=""/>
              <p:cNvSpPr/>
              <p:nvPr/>
            </p:nvSpPr>
            <p:spPr>
              <a:xfrm>
                <a:off x="2460600" y="2430360"/>
                <a:ext cx="4224240" cy="4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60600" y="2430360"/>
                <a:ext cx="4224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3" name="04" descr=""/>
          <p:cNvPicPr/>
          <p:nvPr/>
        </p:nvPicPr>
        <p:blipFill>
          <a:blip r:embed="rId3"/>
          <a:stretch/>
        </p:blipFill>
        <p:spPr>
          <a:xfrm>
            <a:off x="685800" y="3505320"/>
            <a:ext cx="3657600" cy="2971800"/>
          </a:xfrm>
          <a:prstGeom prst="rect">
            <a:avLst/>
          </a:prstGeom>
          <a:ln w="0">
            <a:noFill/>
          </a:ln>
        </p:spPr>
      </p:pic>
      <p:grpSp>
        <p:nvGrpSpPr>
          <p:cNvPr id="124" name=""/>
          <p:cNvGrpSpPr/>
          <p:nvPr/>
        </p:nvGrpSpPr>
        <p:grpSpPr>
          <a:xfrm>
            <a:off x="3557520" y="2459160"/>
            <a:ext cx="4224240" cy="44280"/>
            <a:chOff x="3557520" y="2459160"/>
            <a:chExt cx="4224240" cy="44280"/>
          </a:xfrm>
        </p:grpSpPr>
        <p:sp>
          <p:nvSpPr>
            <p:cNvPr id="125" name=""/>
            <p:cNvSpPr/>
            <p:nvPr/>
          </p:nvSpPr>
          <p:spPr>
            <a:xfrm>
              <a:off x="3557520" y="2459160"/>
              <a:ext cx="4224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3557520" y="2459160"/>
              <a:ext cx="4224240" cy="44280"/>
              <a:chOff x="3557520" y="2459160"/>
              <a:chExt cx="4224240" cy="44280"/>
            </a:xfrm>
          </p:grpSpPr>
          <p:sp>
            <p:nvSpPr>
              <p:cNvPr id="127" name=""/>
              <p:cNvSpPr/>
              <p:nvPr/>
            </p:nvSpPr>
            <p:spPr>
              <a:xfrm>
                <a:off x="3557520" y="2459160"/>
                <a:ext cx="4224240" cy="4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557520" y="2459160"/>
                <a:ext cx="4224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9" name="06" descr=""/>
          <p:cNvPicPr/>
          <p:nvPr/>
        </p:nvPicPr>
        <p:blipFill>
          <a:blip r:embed="rId4"/>
          <a:stretch/>
        </p:blipFill>
        <p:spPr>
          <a:xfrm>
            <a:off x="4952880" y="3505320"/>
            <a:ext cx="35816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8:50:33Z</dcterms:created>
  <dc:creator>LIGIA</dc:creator>
  <dc:description/>
  <dc:language>en-US</dc:language>
  <cp:lastModifiedBy>LIGIA</cp:lastModifiedBy>
  <dcterms:modified xsi:type="dcterms:W3CDTF">2007-03-24T13:27:33Z</dcterms:modified>
  <cp:revision>7</cp:revision>
  <dc:subject/>
  <dc:title>CEL MAI BUN PRIETEN  de Victor Sivetidis</dc:title>
</cp:coreProperties>
</file>